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747-098F-4645-838B-BB9009AC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85C-5DA0-491F-83BD-AD42AA8D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34C-B518-4C98-AE32-CF17B881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E55-76E6-463D-991E-330DBF81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C096-A4D0-4A31-8DD0-4AD2C4AD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A9D6-6878-4C3A-9E2A-3C51695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DAC3-BC9E-4C0A-964E-C4C8B8C4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FD6D-5C12-46AA-92AC-4662ED92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6127-6011-43C1-B45F-16B3014A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68BE-BAE4-4A44-B226-60220E17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C93A-03AD-43FB-BD73-874EE624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DF3-78D0-40A5-8F92-A3812F55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8AAC-7F56-43DA-9E3C-1494312E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40EC-C71F-43EE-A88F-7C32E23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066E-8ABA-4B22-911B-A0B3B6F8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96B3-8818-44C5-9E97-31A6C18B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EF4D-39B3-4025-B60D-70AB8514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3C74-9EAF-4CED-82D1-06F49920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F8D-29C8-4B8D-8353-6AB78878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4A8-DA4C-4B55-BD43-8A9B86F3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580-50D4-49C5-BBD8-78D343AE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79FC-6E9A-430D-8C89-9588B0B6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E43-9B20-4711-842F-91492A5C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19B8-86E9-44AA-A6C3-04B85EF3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6D36-D5BD-4A02-9DE4-CF464B0987B5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6C74-EED1-4B0D-95EA-AC957C4C1C1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lleverywhere.com/free_text_polls/MjcxNjIwODU1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lleverywhere.com/" TargetMode="External"/><Relationship Id="rId3" Type="http://schemas.openxmlformats.org/officeDocument/2006/relationships/hyperlink" Target="http://www.prezi.com/" TargetMode="External"/><Relationship Id="rId4" Type="http://schemas.openxmlformats.org/officeDocument/2006/relationships/hyperlink" Target="http://www.follettsoftware.com/index.cfm" TargetMode="External"/><Relationship Id="rId5" Type="http://schemas.openxmlformats.org/officeDocument/2006/relationships/hyperlink" Target="https://librarian-provocateur.wikispaces.com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olleverywhere.com/multiple_choice_polls/LTUzMTIzOTgyMw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3600" y="3635280"/>
            <a:ext cx="8416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Meeting 21</a:t>
            </a:r>
            <a:r>
              <a:rPr b="0" lang="en-US" sz="3800" spc="-1" strike="noStrike" baseline="30000">
                <a:solidFill>
                  <a:srgbClr val="2c7c9f"/>
                </a:solidFill>
                <a:latin typeface="News Gothic MT"/>
              </a:rPr>
              <a:t>st</a:t>
            </a: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 Century Goals By Reimagining School Library Programs</a:t>
            </a:r>
            <a:endParaRPr b="0" lang="en-US" sz="38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3600" y="5122440"/>
            <a:ext cx="84168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ark Ra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Vancouver Public Schools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Vancouver, Washington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5" name="Picture 10" descr="library cropped.jpg"/>
          <p:cNvPicPr/>
          <p:nvPr/>
        </p:nvPicPr>
        <p:blipFill>
          <a:blip r:embed="rId2"/>
          <a:stretch/>
        </p:blipFill>
        <p:spPr>
          <a:xfrm>
            <a:off x="1066680" y="762120"/>
            <a:ext cx="701064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360" y="1904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volving core and extended state standard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Dynamic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-century learning goa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neaking suspicion that we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re not getting the job done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9" name="Picture 3" descr="MP900401828.JPG"/>
          <p:cNvPicPr/>
          <p:nvPr/>
        </p:nvPicPr>
        <p:blipFill>
          <a:blip r:embed="rId2"/>
          <a:stretch/>
        </p:blipFill>
        <p:spPr>
          <a:xfrm>
            <a:off x="6629400" y="3809880"/>
            <a:ext cx="1346040" cy="20178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549360" y="412920"/>
            <a:ext cx="804204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Stuck between AYP &amp; 21C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Callout 3"/>
          <p:cNvSpPr/>
          <p:nvPr/>
        </p:nvSpPr>
        <p:spPr>
          <a:xfrm>
            <a:off x="380880" y="1828800"/>
            <a:ext cx="6400800" cy="365760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f67309"/>
              </a:gs>
              <a:gs pos="100000">
                <a:srgbClr val="fec3af"/>
              </a:gs>
            </a:gsLst>
            <a:lin ang="5400000"/>
          </a:gradFill>
          <a:ln w="12600">
            <a:solidFill>
              <a:srgbClr val="e27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592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News Gothic MT"/>
              </a:rPr>
              <a:t>The technology that enables connected teaching is available now, but not all the conditions necessary to leverage it ar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Callout 4"/>
          <p:cNvSpPr/>
          <p:nvPr/>
        </p:nvSpPr>
        <p:spPr>
          <a:xfrm>
            <a:off x="2971800" y="1752480"/>
            <a:ext cx="5943600" cy="41911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84c800"/>
              </a:gs>
              <a:gs pos="100000">
                <a:srgbClr val="cce7b3"/>
              </a:gs>
            </a:gsLst>
            <a:lin ang="5400000"/>
          </a:gradFill>
          <a:ln w="12600">
            <a:solidFill>
              <a:srgbClr val="7db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[Students’] vision is much broader than the individual technology components often described in local education technology plans and more focused on transformational changes in the learning proces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Callout 5"/>
          <p:cNvSpPr/>
          <p:nvPr/>
        </p:nvSpPr>
        <p:spPr>
          <a:xfrm>
            <a:off x="609480" y="2133720"/>
            <a:ext cx="7086600" cy="40384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2c7c9f"/>
          </a:solidFill>
          <a:ln w="25560">
            <a:solidFill>
              <a:srgbClr val="1d59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86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 Gothic MT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News Gothic MT"/>
              </a:rPr>
              <a:t>Can classroom teachers alone, stressed by assessment testing and ever-growing paperwork burdens, help students figure this all ou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360" y="1904760"/>
            <a:ext cx="455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we make 21</a:t>
            </a:r>
            <a:r>
              <a:rPr b="0" lang="en-US" sz="32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 century learning happen with decreased funding, staffing and ability/willingness of educators to do more with les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6" name="Picture 3" descr="MP900409101.JPG"/>
          <p:cNvPicPr/>
          <p:nvPr/>
        </p:nvPicPr>
        <p:blipFill>
          <a:blip r:embed="rId2"/>
          <a:stretch/>
        </p:blipFill>
        <p:spPr>
          <a:xfrm>
            <a:off x="5562720" y="2057400"/>
            <a:ext cx="2535120" cy="38116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81600" y="1904760"/>
            <a:ext cx="478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How do we begin to respond to the needs of millennial learners for interactive, collaborative and dynamic learning environments?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9" name="Picture 3" descr="MP900439416.JPG"/>
          <p:cNvPicPr/>
          <p:nvPr/>
        </p:nvPicPr>
        <p:blipFill>
          <a:blip r:embed="rId2"/>
          <a:stretch/>
        </p:blipFill>
        <p:spPr>
          <a:xfrm>
            <a:off x="685800" y="2209680"/>
            <a:ext cx="3048120" cy="304812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ethink school librarie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ooking past the ‘L’ wor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ibrary, information and technology skills (LIT) are explicit in three guiding educational documents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International Society for Technology in Education (ISTE) Educational Technology Standards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 Three standards are contained in a LIT program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Partnership for 21st Century Learning Skills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. One of the three skill domains focuses on “Information, Media and Technology Skills.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News Gothic MT"/>
              </a:rPr>
              <a:t>Washington Office of the Superintendent of Public Instruction (OSPI) Educational Technology Learning Standards. 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our of seven components align with LIT program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Rethink school librarie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y not librarie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rogram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expressly designed to support curriculum and instruction in the schoo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rofessional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tasked with collaboration and integration with students and teacher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Plac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designed to offer access to materials to support literacy, research and educational technolog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’s the catch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9000" y="18284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Expand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vision of the role of the teacher librarian and the school libr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Establish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strategic partnerships between teacher librarians and district services and administr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Streamlin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resource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library oper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News Gothic MT"/>
              </a:rPr>
              <a:t>Bridge 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the analog gap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6" name="Picture 3" descr="MP900422593.JPG"/>
          <p:cNvPicPr/>
          <p:nvPr/>
        </p:nvPicPr>
        <p:blipFill>
          <a:blip r:embed="rId2"/>
          <a:stretch/>
        </p:blipFill>
        <p:spPr>
          <a:xfrm>
            <a:off x="5334120" y="3962520"/>
            <a:ext cx="3124080" cy="208116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and vision of ‘library’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Enrich and empower teacher librarians to be stronger educational leaders for students and teac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solated successes; lack of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century foc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Teacher librarian-as-technology facilitator; teacher librarian technology train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gage teacher librarians through visioning, planning, training and/or implement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190760" y="1904760"/>
            <a:ext cx="4708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Connect library, information and technology programs with one or more key departme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T, curriculum and instruction and/or literac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grams operating independently of one another; lack of trust and commun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1" name="Picture 5" descr="MP900285136 cropped.jpg"/>
          <p:cNvPicPr/>
          <p:nvPr/>
        </p:nvPicPr>
        <p:blipFill>
          <a:blip r:embed="rId2"/>
          <a:stretch/>
        </p:blipFill>
        <p:spPr>
          <a:xfrm>
            <a:off x="1219320" y="1981080"/>
            <a:ext cx="2666880" cy="368316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90760" y="1904760"/>
            <a:ext cx="440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K-12 Destiny/Cognite implementation; alignment with curriculum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Bring teacher librarians to the tab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Identify leaders to work with key district personnel and co-lead initiatives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4" name="Picture 3" descr="MP900427824.JPG"/>
          <p:cNvPicPr/>
          <p:nvPr/>
        </p:nvPicPr>
        <p:blipFill>
          <a:blip r:embed="rId2"/>
          <a:stretch/>
        </p:blipFill>
        <p:spPr>
          <a:xfrm>
            <a:off x="696960" y="2057400"/>
            <a:ext cx="3370320" cy="289548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pecta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49360" y="1599840"/>
            <a:ext cx="813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This is about success-in-progress, not software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 don’t suffer poor presentations gladly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 will use good instructional practices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News Gothic MT"/>
              </a:rPr>
              <a:t>I think I can help you </a:t>
            </a:r>
            <a:r>
              <a:rPr b="0" i="1" lang="en-US" sz="3200" spc="-1" strike="noStrike">
                <a:solidFill>
                  <a:srgbClr val="595959"/>
                </a:solidFill>
                <a:latin typeface="News Gothic MT"/>
              </a:rPr>
              <a:t>think different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ncorrect grammar thanks to Apple, Inc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9360" y="1904760"/>
            <a:ext cx="455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Modernize operations to improve services, save money and allow teacher librarians to teach and le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4 different servers, no sense of textbook inventory, lack of policy and procedur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37" name="Picture 3" descr="MP900439527.JPG"/>
          <p:cNvPicPr/>
          <p:nvPr/>
        </p:nvPicPr>
        <p:blipFill>
          <a:blip r:embed="rId2"/>
          <a:stretch/>
        </p:blipFill>
        <p:spPr>
          <a:xfrm>
            <a:off x="5486400" y="1905120"/>
            <a:ext cx="2687760" cy="35812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419720" y="1904760"/>
            <a:ext cx="417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K-12 resource integration; materials policy task force and creation of standard operating procedur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view materials management policies and workflow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0" name="Picture 3" descr="MP900448493.JPG"/>
          <p:cNvPicPr/>
          <p:nvPr/>
        </p:nvPicPr>
        <p:blipFill>
          <a:blip r:embed="rId2"/>
          <a:stretch/>
        </p:blipFill>
        <p:spPr>
          <a:xfrm>
            <a:off x="914400" y="2133720"/>
            <a:ext cx="3352680" cy="223524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Bridge the analog gap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Leverage millions of dollars invested in ‘analog’ resources like books, text materials and teac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uters and a network but no sense of purpos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lexible Learning Environments and Cognite Technology Pilo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ssess how to better use educational resources and educators to meet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century goa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Expand vision of the role of teacher librarians and the school library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uild strategic partnership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etween teacher librarian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nd district services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administra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5" name="Picture 3" descr="MP900285128.JPG"/>
          <p:cNvPicPr/>
          <p:nvPr/>
        </p:nvPicPr>
        <p:blipFill>
          <a:blip r:embed="rId2"/>
          <a:stretch/>
        </p:blipFill>
        <p:spPr>
          <a:xfrm>
            <a:off x="6095880" y="2971800"/>
            <a:ext cx="2286000" cy="34369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9000" y="190476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Modernize resource and library operation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ridge the analog gap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8" name="Picture 3" descr="MP900427807.JPG"/>
          <p:cNvPicPr/>
          <p:nvPr/>
        </p:nvPicPr>
        <p:blipFill>
          <a:blip r:embed="rId2"/>
          <a:stretch/>
        </p:blipFill>
        <p:spPr>
          <a:xfrm>
            <a:off x="2438280" y="3240000"/>
            <a:ext cx="4724640" cy="30085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20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What one word would you use to describe school libraries or teacher librarians?</a:t>
            </a: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2743200"/>
            <a:ext cx="8042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First enter the number: 92691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hen enter a wor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hen send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Leaving with solution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Key resourc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olleverywhere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3"/>
              </a:rPr>
              <a:t>Prezi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4"/>
              </a:rPr>
              <a:t>Follettsoftware.co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5"/>
              </a:rPr>
              <a:t>Librarian Provocateu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37280" indent="-40212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 Google “librarian-provocateu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737280" indent="-40212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Not to be confused with “Agent Provocateur”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lvl="1" marL="737280" indent="-40212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95959"/>
                </a:solidFill>
                <a:latin typeface="News Gothic MT"/>
              </a:rPr>
              <a:t>Article links, etc. are listed under “NSBA”</a:t>
            </a:r>
            <a:endParaRPr b="0" lang="en-US" sz="2500" spc="-1" strike="noStrike">
              <a:solidFill>
                <a:srgbClr val="595959"/>
              </a:solidFill>
              <a:latin typeface="News Gothic MT"/>
            </a:endParaRPr>
          </a:p>
          <a:p>
            <a:pPr marL="438840" indent="-43884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rk.ray@vansd.or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599840"/>
            <a:ext cx="5165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Understand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Vancouver Public Schools and the educational landscape vis à vis 21st century learning, teacher librarians and strategic planning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Rethink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how library information and technology programs and teacher librarians can support 21st century learning initiativ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0" name="Picture 4" descr="iStock_000011719519XXLarge-1.jpg"/>
          <p:cNvPicPr/>
          <p:nvPr/>
        </p:nvPicPr>
        <p:blipFill>
          <a:blip r:embed="rId2"/>
          <a:stretch/>
        </p:blipFill>
        <p:spPr>
          <a:xfrm>
            <a:off x="5867280" y="1752480"/>
            <a:ext cx="2768760" cy="35816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72428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Se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how systemic investments can support these initiativ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Leave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 with four steps to leverage libraries and teacher librarians to meet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-century need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3" name="Picture 3" descr="MP900427685.JPG"/>
          <p:cNvPicPr/>
          <p:nvPr/>
        </p:nvPicPr>
        <p:blipFill>
          <a:blip r:embed="rId2"/>
          <a:stretch/>
        </p:blipFill>
        <p:spPr>
          <a:xfrm>
            <a:off x="1676520" y="1676520"/>
            <a:ext cx="2590560" cy="3884400"/>
          </a:xfrm>
          <a:prstGeom prst="rect">
            <a:avLst/>
          </a:prstGeom>
          <a:ln w="0">
            <a:noFill/>
          </a:ln>
          <a:effectLst>
            <a:outerShdw dist="126988" dir="7803308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ormative assess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1599840"/>
            <a:ext cx="5089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et out your cell phone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In my presentation, you can leave them on “vibrate.”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Prepare to text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You may have to switch from T9 to 123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6" name="Picture 3" descr="MP900438722.JPG"/>
          <p:cNvPicPr/>
          <p:nvPr/>
        </p:nvPicPr>
        <p:blipFill>
          <a:blip r:embed="rId2"/>
          <a:stretch/>
        </p:blipFill>
        <p:spPr>
          <a:xfrm>
            <a:off x="5638680" y="1523880"/>
            <a:ext cx="2692440" cy="40388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News Gothic MT"/>
              </a:rPr>
              <a:t>What is your current perception of school libraries?</a:t>
            </a: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ssential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can't imagine a school without them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4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phemeral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'm not sure how they fit into a 21st century school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5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rstwhile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don't think they realize it's almost 2011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6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Expendable.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can't afford them.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127167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o am I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520" y="1599840"/>
            <a:ext cx="859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acher librarian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Skyview HS et. al.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Technology facilitato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Vancouver Public Schools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Rabble rouser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Blog: Librarian Provocateu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Project LIT founding member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35160" indent="-33516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News Gothic MT"/>
              </a:rPr>
              <a:t>Plays well with administrators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News Gothic MT"/>
              </a:rPr>
              <a:t>Collaborations with HR, curriculum, IT, planning, facility design and higher education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o is VP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11520" y="1752120"/>
            <a:ext cx="455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e are not Vancouver, C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1,000 stud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1 schoo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21/6/4/2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creasing diversity and povert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current years of significant budget shortfa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3" name="Picture 6" descr="VPS school.JPG"/>
          <p:cNvPicPr/>
          <p:nvPr/>
        </p:nvPicPr>
        <p:blipFill>
          <a:blip r:embed="rId2"/>
          <a:stretch/>
        </p:blipFill>
        <p:spPr>
          <a:xfrm>
            <a:off x="750960" y="2057400"/>
            <a:ext cx="3592440" cy="2514600"/>
          </a:xfrm>
          <a:prstGeom prst="rect">
            <a:avLst/>
          </a:prstGeom>
          <a:ln w="0">
            <a:noFill/>
          </a:ln>
          <a:effectLst>
            <a:outerShdw dist="127137" dir="7137603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41256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News Gothic MT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904760"/>
            <a:ext cx="4784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Bearish budgetary outlook at all level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Continued pressure from national/state benchmarks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News Gothic MT"/>
              </a:rPr>
              <a:t>Growing private and public online and alternative competitio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6" name="Picture 3" descr="MP900178792.JPG"/>
          <p:cNvPicPr/>
          <p:nvPr/>
        </p:nvPicPr>
        <p:blipFill>
          <a:blip r:embed="rId2"/>
          <a:stretch/>
        </p:blipFill>
        <p:spPr>
          <a:xfrm>
            <a:off x="5562720" y="2057400"/>
            <a:ext cx="2462040" cy="36576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21:36:47Z</dcterms:created>
  <dc:creator>Trial User</dc:creator>
  <dc:description/>
  <dc:language>en-US</dc:language>
  <cp:lastModifiedBy>VSD</cp:lastModifiedBy>
  <dcterms:modified xsi:type="dcterms:W3CDTF">2010-10-19T15:28:20Z</dcterms:modified>
  <cp:revision>104</cp:revision>
  <dc:subject/>
  <dc:title>Leveraging School Libraries</dc:title>
</cp:coreProperties>
</file>